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A4C-4C86-4913-9C50-CF34D65B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FA9-870C-4A69-AC46-0FAE714A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D59-E6E4-4C67-A8B6-F1064542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F47-638E-4203-9350-06FB66B6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8C3-C68C-4C0B-98BA-470D8510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C7F-E3EE-4C5D-AC15-2DBCAA17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0B3-8CAC-40D6-99AC-2B61A2F3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1FE-A32A-47F5-977A-77983958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091-2324-4C81-BEA2-28769CD0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BC9-7CE9-4014-AC69-A1A515C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08B-F267-4F34-996F-310C497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9D2-42BC-4771-869D-683C575E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A81B-080E-46DF-8900-CF60C0094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37Z</dcterms:modified>
  <cp:revision>3</cp:revision>
  <dc:subject/>
  <dc:title>Folie 1</dc:title>
</cp:coreProperties>
</file>