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A246-BC2F-467B-8225-3EE80905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0D5F-F877-4078-BCB2-978CE0B3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437-A90C-42F7-B148-BEBA4FD6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565-913C-415D-8EDA-C8460D71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E78-1367-4B63-8A5A-5934A8C1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EC0-1EF2-413D-8EA0-15613DCA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D24-4AB0-4600-AD84-1AE371EF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A05-6E8C-4277-A26B-D4F4763A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A7B-4ABC-4991-9B5D-DDC3BB20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6D1-EA1A-4993-BE62-0517A83C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D856-8CA8-498E-893B-F442E636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50D8-99A8-4307-8574-C44F33E5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E2E4-236A-4A2C-A318-B9C7F60B9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Österreichische Computer Gesellschaft</cp:lastModifiedBy>
  <dcterms:modified xsi:type="dcterms:W3CDTF">2004-07-18T15:07:59Z</dcterms:modified>
  <cp:revision>4</cp:revision>
  <dc:subject/>
  <dc:title>Folie 1</dc:title>
</cp:coreProperties>
</file>