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71B-57B8-4C1C-8048-F25170AA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279-438E-4AE1-8429-81DE3A6A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537-0E76-43D5-8325-62A36FD9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516-8064-4A9A-BA47-F7705978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6CB-78B4-4855-B794-A26C7534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2A9-07C5-4FD0-AE8B-1BAFE3D3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43A-B689-494F-8C02-A4F06089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271-D2FE-4D0A-A6A0-F5E78D2C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499-B793-4815-91B4-A13D1FD4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3E1-590C-4371-868B-CEA61DA3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847-F7F0-4C8D-B365-D6000F00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C7A-9922-453D-B34E-277EA23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BE80-3056-45AF-92CB-DB96B81C3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CDL </a:t>
            </a: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11:22Z</dcterms:modified>
  <cp:revision>4</cp:revision>
  <dc:subject/>
  <dc:title>Folie 1</dc:title>
</cp:coreProperties>
</file>