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6C9-9497-4E11-9FDC-55588F1C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661-C0C9-4FE2-AEE5-5101770B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457-D536-4D7A-9C52-BD01EF7A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C16-E48D-4F0D-9EEB-BFC13B41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02D-C73B-4C2C-8B4F-C7240FBD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A20-5B14-4447-883F-29DBD88E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BAF-7E78-4181-9578-BAAD36CF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AAB-4ABC-41DA-AC5E-BE3EC0C2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435-D5F5-4030-AD71-DDB60EFC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CE6-CC06-4299-8680-98C2483B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DFA-E8F7-4502-BA4B-C149E04D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DED-7ADD-49E9-8D18-2AF25120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B955-1CE5-46C4-965E-3218942A2B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7T12:12:17Z</dcterms:modified>
  <cp:revision>1</cp:revision>
  <dc:subject/>
  <dc:title>Folie 1</dc:title>
</cp:coreProperties>
</file>