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E1FF-6D04-46DE-A006-BB89B5D9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E6C-E1E1-4690-8562-45926B71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B775-F9DD-43C2-92D0-8B53D7EA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475D-6B0D-436A-99FD-973F7FA1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6F00-1E42-495E-A342-4900B2AE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7CB1-8366-4CE5-B82E-90E216B4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855E-D34B-42EB-90CE-666FD409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373C-A799-4ABE-9FFC-738AC7EB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EEF7-2924-48C9-A960-80FC3F5F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B877-91BC-4933-A90D-52266B07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4E6F-F45C-451D-8DCF-6A1A34BF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C58E-C732-42E5-BC75-6337D98D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CF5A-D5B1-4191-95FF-C4FC5659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377B-3118-428D-B231-46CF3BCD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4EF8-9247-45BA-A1AD-92FBA91E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5630-30B3-4023-88E0-06C24141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AA57-F59F-4D34-B520-546B6994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A6F6-BE41-4CE5-BDBA-AE272C86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22BD-2181-4712-8CFB-CB103359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D5BB-9647-4A63-A221-6E8C4163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DFE2-4F97-461B-9395-CEE4F9C0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E62D-C9EA-4175-937C-2A5016D3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FF0A-8A4E-41F4-9DD3-45DAF108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7B62-7234-4B98-BC4D-C38D5579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04AF-7836-4ECD-9040-580A9BA84E38}" type="slidenum">
              <a:rPr b="0" lang="de-A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FF50-6CED-4B62-B332-1ED6516E72B5}" type="slidenum">
              <a:rPr b="0" lang="de-A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06633"/>
                </a:solidFill>
                <a:latin typeface="Garamond"/>
              </a:rPr>
              <a:t>Einladung zum</a:t>
            </a:r>
            <a:br>
              <a:rPr sz="5000"/>
            </a:br>
            <a:r>
              <a:rPr b="0" lang="de-DE" sz="5000" spc="-1" strike="noStrike">
                <a:solidFill>
                  <a:srgbClr val="006633"/>
                </a:solidFill>
                <a:latin typeface="Garamond"/>
              </a:rPr>
              <a:t>Frühjahrslauf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sentation erstellt v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Frühjahrslauf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404028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atum: 21. Mär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Zeit: ab 10:00 Uh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art und Ziel: 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portplat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Anmeldu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m Gemeindeam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äglich zwischen 8:00 und 15: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elefonisch unter 22 5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Bis 15. Mär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Kosten: KE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Unser Tea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Für Kin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1.000 Meter-Lau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ginn: 12:00 Uh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recke: Sportplatz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Volksschul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Sportplat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3.000 Meter-Lau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ginn: 13:00 Uh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recke: Sportplatz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Bahnhof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Sportplat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Für Erwachse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5.000 Meter-Lau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ginn: 11:00 U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ecke: Sportplatz – Bahnhof – Schlossberg – Sportpla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0.000 Meter-Lau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ginn: 10:30 U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ecke: Sportplatz – Schlossberg – Schwarzwald – Sportpla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rathonla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ginn: 10:00 U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2.195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06633"/>
                </a:solidFill>
                <a:latin typeface="Garamond"/>
              </a:rPr>
              <a:t>Frühjahrslauf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ilnehmerInnen und Sieger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13:15:52Z</dcterms:created>
  <dc:creator> </dc:creator>
  <dc:description/>
  <dc:language>en-US</dc:language>
  <cp:lastModifiedBy>Trainer G</cp:lastModifiedBy>
  <dcterms:modified xsi:type="dcterms:W3CDTF">2004-08-27T15:54:40Z</dcterms:modified>
  <cp:revision>11</cp:revision>
  <dc:subject/>
  <dc:title>Einladung zum Frühjahrslauf</dc:title>
</cp:coreProperties>
</file>