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E5C5-457B-4BA3-99CF-4128F97F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BE9B-99D3-4469-A304-F284871B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06E1-754F-4F65-88E9-A698800C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3E246-67E6-4FC2-AC43-8CE7C7E3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C49A-BF43-4159-8172-1F4A5804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313B-DED3-4F4A-83A8-FA0CB0F3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108B-2E90-4F52-8B7E-61F421E9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0258-0CDE-46D6-84B0-E0F73CA1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80A2-FEEF-4370-AF98-19D5AE5A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E9A5-F766-47CB-ACE1-5C22CD3E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316F-3907-4CDC-9F4B-3D2D8639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A71E-3522-419E-8670-002B6067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6233-95DB-403C-8274-1CAB83F7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A84B-0682-40D0-BC53-CBEEA5C9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6927-1908-4D00-BD8D-5CBBB847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533A-5291-4598-B827-6C98A768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DCE0-A4C1-4A84-B4C2-296DB179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6E99-1F37-4279-B9B6-2B26320A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0977-664C-4E40-9B5D-026FD8D2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4A60-5082-4975-BE10-555EAE6E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0183-FE1C-4834-ABBA-8576ECA2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F856-E8DC-473A-83FF-40A2FBBD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9D28-77C8-4458-98C4-1C362E94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1581-E937-44F1-8CF0-A96950AD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1DAD-FBB3-408E-A96E-844A4D8405B5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885080" y="260280"/>
            <a:ext cx="959040" cy="27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9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7CF7-6FFB-4FB5-A82F-1162AA7DB5A5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7885080" y="260280"/>
            <a:ext cx="959040" cy="27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5580000" y="3716280"/>
            <a:ext cx="259236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t: 13:00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000 Meter-La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fdef6"/>
                </a:solidFill>
                <a:latin typeface="Arial"/>
              </a:rPr>
              <a:t>Tagesablauf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684360" y="3287880"/>
            <a:ext cx="1869840" cy="17953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611280" y="1484280"/>
            <a:ext cx="2592360" cy="865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tart: 10:30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000 Meter-La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268360" y="2228760"/>
            <a:ext cx="2592720" cy="865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tart: 11:00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5.000 Meter-La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924360" y="2973240"/>
            <a:ext cx="2592360" cy="865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tart: 12:00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.000 Meter-La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1280" y="5229360"/>
            <a:ext cx="7705800" cy="936360"/>
          </a:xfrm>
          <a:prstGeom prst="rect">
            <a:avLst/>
          </a:prstGeom>
          <a:blipFill rotWithShape="0">
            <a:blip r:embed="rId2">
              <a:alphaModFix amt="34000"/>
            </a:blip>
            <a:srcRect/>
            <a:tile tx="0" ty="0" sx="100000" sy="100000" algn="ctr"/>
          </a:blip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tart: 10:00 Uhr - Marathonlau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fdef6"/>
                </a:solidFill>
                <a:latin typeface="Arial"/>
              </a:rPr>
              <a:t>TeilnehmerInn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69800" y="1600200"/>
          <a:ext cx="8202600" cy="45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00200"/>
                    <a:ext cx="820260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fdef6"/>
                </a:solidFill>
                <a:latin typeface="Arial"/>
              </a:rPr>
              <a:t>Marathonlauf - Streckenführu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900000" y="2781360"/>
            <a:ext cx="1800360" cy="368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Sportpla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00000" y="5878440"/>
            <a:ext cx="1800360" cy="368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atha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867280" y="4329000"/>
            <a:ext cx="1800360" cy="368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Schwarzwa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867280" y="2781360"/>
            <a:ext cx="1800360" cy="368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ahnh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900000" y="4329000"/>
            <a:ext cx="1800360" cy="368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Schlossbe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916360" y="2997360"/>
            <a:ext cx="27352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2916360" y="4510080"/>
            <a:ext cx="27352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987640" y="6094440"/>
            <a:ext cx="19447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59640" y="3357720"/>
            <a:ext cx="0" cy="7920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92360" y="4941720"/>
            <a:ext cx="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Arial"/>
              </a:rPr>
              <a:t>Marathonlauf - Gewinn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iegerin: Karin Hasl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ieger: Peter Ste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971640" y="2567160"/>
            <a:ext cx="1805040" cy="27399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3706920" y="3500280"/>
            <a:ext cx="1805040" cy="27352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6443640" y="2852640"/>
            <a:ext cx="18050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15:11:56Z</dcterms:created>
  <dc:creator> </dc:creator>
  <dc:description/>
  <dc:language>en-US</dc:language>
  <cp:lastModifiedBy>Trainer G</cp:lastModifiedBy>
  <dcterms:modified xsi:type="dcterms:W3CDTF">2004-08-30T16:41:31Z</dcterms:modified>
  <cp:revision>11</cp:revision>
  <dc:subject/>
  <dc:title>Tagesablauf</dc:title>
</cp:coreProperties>
</file>